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257D-500F-44E0-BB1E-7E22BBBE3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411912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A96D-D90A-4762-9B57-4AAD4330B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52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1912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411912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F09E-E7BE-4667-A585-9EC67F98C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752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752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411912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411912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411912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F202-872C-4565-9C9D-D51078F0B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72A1F-EC0F-4D01-9191-360A93F05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14400" y="175248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1D28B-EDA2-4639-891B-930B13576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FB325-B8C9-4E77-8B10-9BC9098EB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97080" y="175248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5FEFB-CD60-480E-A7C8-36B8BEA82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C1DDA-6918-4D21-B77B-0E009288B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144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7A269-4CE1-43CA-A47E-AEE0CEBF9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75248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14400" y="411912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EAB82-FE49-4B83-AFD5-8DA8B730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75248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BE83-71AD-401C-8884-AFD90AFA8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752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97080" y="411912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54514-B7FA-4D5F-A993-D4F40C111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52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1912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05047-6340-407E-B1DF-7A05A2D2C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14400" y="411912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3D5BB-0741-48D9-9096-3DDDA8CFC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97080" y="1752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14400" y="411912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97080" y="411912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8F555-DBE0-4E80-B6C2-D2614039E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42400" y="1752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70040" y="1752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14400" y="411912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42400" y="411912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70040" y="411912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7D9B1-18BB-4349-A123-119F02302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6250-2BB9-44A2-8C8A-DB72399F8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75248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4AE6-B494-46CE-937E-E78FC4A81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2606-DFE1-437F-9FF5-02BF2A34F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EC3F-B7A3-489D-A15F-E2779D91F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75248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411912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6558-8112-45F5-9D37-2CD694E12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3792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752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411912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50E5-ADB4-4A20-AC2A-5D4EB12C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752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411912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0DED-5BDE-429C-AA92-ECDFD637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75248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D98C1-903C-4890-A904-4F563E4C11E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4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6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0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9B78D-C442-4499-83D9-2C95CD0E27F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600" spc="-1" strike="noStrike">
                <a:solidFill>
                  <a:srgbClr val="336699"/>
                </a:solidFill>
                <a:latin typeface="Arial"/>
              </a:rPr>
              <a:t>Oferta educaţionala TVE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600" spc="-1" strike="noStrike">
                <a:solidFill>
                  <a:srgbClr val="336699"/>
                </a:solidFill>
                <a:latin typeface="Arial"/>
              </a:rPr>
              <a:t>în judeţul Praho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336699"/>
                </a:solidFill>
                <a:latin typeface="Arial"/>
              </a:rPr>
              <a:t>Inspectoratul Şcolar Judeţean  (ISJ) Praho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Evoluţia  ofertei TVET-PLAI 2013</a:t>
            </a:r>
            <a:br>
              <a:rPr sz="2000"/>
            </a:br>
            <a:r>
              <a:rPr b="1" lang="ro-RO" sz="2000" spc="-1" strike="noStrike">
                <a:solidFill>
                  <a:srgbClr val="0000ff"/>
                </a:solidFill>
                <a:latin typeface="Arial"/>
              </a:rPr>
              <a:t>Domeniile pentru care se recomandă creşterea ofertei TVET 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095880"/>
            <a:ext cx="8686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609480" y="1552680"/>
          <a:ext cx="8534520" cy="4589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552680"/>
                    <a:ext cx="8534520" cy="45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15328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d2"/>
                </a:solidFill>
                <a:latin typeface="Times New Roman"/>
              </a:rPr>
              <a:t> </a:t>
            </a:r>
            <a:r>
              <a:rPr b="1" lang="ro-RO" sz="2600" spc="-1" strike="noStrike">
                <a:solidFill>
                  <a:srgbClr val="0000d2"/>
                </a:solidFill>
                <a:latin typeface="Times New Roman"/>
              </a:rPr>
              <a:t>PLAI Prahova - coerenţă si relevanţă a ofertei TVET</a:t>
            </a:r>
            <a:endParaRPr b="0" lang="en-US" sz="2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Arial"/>
              </a:rPr>
              <a:t>PLA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2004-2013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Prahov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– elaborat de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Comitetul Local de Dezvoltare a Parteneriatului Social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(CLD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CLDPS Prahov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- 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tructură partenerială consultativă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a ISJ cuprinzâ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membri reprezentâ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52480" y="3733920"/>
            <a:ext cx="6553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Inspectoratul Şcolar, Prefectura, Consiliul Judeţean, Consilii locale, Primării, Agenţia Judeţeana pentru Ocuparea Forţei de Muncă, Direcţia Judeţeană de Statistică, Organizaţii patronale, Camera de Comerţ şi Industrie, Întreprinderi, Organizaţii sindica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6019920"/>
            <a:ext cx="685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77724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ro-RO" sz="2800" spc="-1" strike="noStrike">
                <a:solidFill>
                  <a:srgbClr val="330033"/>
                </a:solidFill>
                <a:latin typeface="Times New Roman"/>
              </a:rPr>
              <a:t>PLAI Prahova - coerenţă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190512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Dezvoltat prin articulare c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438280"/>
            <a:ext cx="8076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lanul de Dezvoltare Regională (PDR) 2004-2006 şi 2007 – 201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lanul Regional de Acţiune pentru dezvoltarea învăţământului profesional şi tehnic (PRAI) 2004-201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trategia de dezvoltare a judeţului Prahova (2004 -2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trategia de dezvoltare a învăţământului preuniversitar în perspectiva anului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990720" y="457200"/>
            <a:ext cx="77724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ro-RO" sz="2800" spc="-1" strike="noStrike">
                <a:solidFill>
                  <a:srgbClr val="330033"/>
                </a:solidFill>
                <a:latin typeface="Times New Roman"/>
              </a:rPr>
              <a:t>PLAI Prahova – relevanţa ofertei TV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17524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3657600" y="2133720"/>
          <a:ext cx="5613480" cy="31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2133720"/>
                    <a:ext cx="5613480" cy="31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533520" y="2590920"/>
          <a:ext cx="3790800" cy="2493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2590920"/>
                    <a:ext cx="3790800" cy="24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OBIECTIVELE PLAI PRAHOVA</a:t>
            </a: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1523880"/>
            <a:ext cx="830556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o-RO" sz="2200" spc="-1" strike="noStrike">
                <a:solidFill>
                  <a:srgbClr val="000000"/>
                </a:solidFill>
                <a:latin typeface="Arial"/>
              </a:rPr>
              <a:t>Adaptarea ofertei TVET la cererea pi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i="1" lang="ro-RO" sz="2200" spc="-1" strike="noStrike">
                <a:solidFill>
                  <a:srgbClr val="000000"/>
                </a:solidFill>
                <a:latin typeface="Arial"/>
              </a:rPr>
              <a:t>ţei munci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o-RO" sz="2200" spc="-1" strike="noStrike">
                <a:solidFill>
                  <a:srgbClr val="000000"/>
                </a:solidFill>
                <a:latin typeface="Arial"/>
              </a:rPr>
              <a:t>Identificarea bazinelor geografice de formare pentru asigurarea accesului la TVET (nivel de educaţie secundar superior) şi formare profesională continuă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o-RO" sz="2200" spc="-1" strike="noStrike">
                <a:solidFill>
                  <a:srgbClr val="000000"/>
                </a:solidFill>
                <a:latin typeface="Arial"/>
              </a:rPr>
              <a:t>Îmbunătăţirea pregătirii profesionale continue a cadrelor didactice din TV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200" spc="-1" strike="noStrike">
                <a:solidFill>
                  <a:srgbClr val="000000"/>
                </a:solidFill>
                <a:latin typeface="Arial"/>
              </a:rPr>
              <a:t>Îmbunătăţirea dotării şcolilor TVET cu echipamente didact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200" spc="-1" strike="noStrike">
                <a:solidFill>
                  <a:srgbClr val="000000"/>
                </a:solidFill>
                <a:latin typeface="Arial"/>
              </a:rPr>
              <a:t>Dezvoltarea activităţii de informare şi orientare pentru carieră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200" spc="-1" strike="noStrike">
                <a:solidFill>
                  <a:srgbClr val="000000"/>
                </a:solidFill>
                <a:latin typeface="Arial"/>
              </a:rPr>
              <a:t>Asigurarea calităţii şcolilor TV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200" spc="-1" strike="noStrike">
                <a:solidFill>
                  <a:srgbClr val="000000"/>
                </a:solidFill>
                <a:latin typeface="Arial"/>
              </a:rPr>
              <a:t>Consolidarea parteneriatului şcoală, întreprindere, comunit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352680" y="304560"/>
            <a:ext cx="563904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330033"/>
                </a:solidFill>
                <a:latin typeface="Times New Roman"/>
              </a:rPr>
              <a:t>Organizarea ofertei TVET în judeţul Prahova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" y="914400"/>
            <a:ext cx="3276720" cy="55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3300"/>
                </a:solidFill>
                <a:latin typeface="Arial"/>
              </a:rPr>
              <a:t>Formare profesională iniţială TVE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00000"/>
                </a:solidFill>
                <a:latin typeface="Arial"/>
              </a:rPr>
              <a:t>43  şcoli TVET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( 28 urban şi 15 rura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33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i="1" lang="ro-RO" sz="1800" spc="-1" strike="noStrike">
                <a:solidFill>
                  <a:srgbClr val="000000"/>
                </a:solidFill>
                <a:latin typeface="Arial"/>
              </a:rPr>
              <a:t> bazine geografice</a:t>
            </a:r>
            <a:r>
              <a:rPr b="1" lang="ro-RO" sz="1600" spc="-1" strike="noStrike">
                <a:solidFill>
                  <a:srgbClr val="333300"/>
                </a:solidFill>
                <a:latin typeface="Arial"/>
              </a:rPr>
              <a:t> de formare iniţială TV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333300"/>
                </a:solidFill>
                <a:latin typeface="Arial"/>
              </a:rPr>
              <a:t>În fiecare bazin geografic de formare TVET există cel puţin o şcoală cu nivelele 1, 2 şi 3 de calific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333300"/>
                </a:solidFill>
                <a:latin typeface="Arial"/>
              </a:rPr>
              <a:t>8  şcoli cu nivel 3+ de califica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333300"/>
                </a:solidFill>
                <a:latin typeface="Arial"/>
              </a:rPr>
              <a:t>Formare profesională continuă (CVT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333300"/>
                </a:solidFill>
                <a:latin typeface="Arial"/>
              </a:rPr>
              <a:t>- </a:t>
            </a:r>
            <a:r>
              <a:rPr b="1" lang="ro-RO" sz="1600" spc="-1" strike="noStrike">
                <a:solidFill>
                  <a:srgbClr val="333300"/>
                </a:solidFill>
                <a:latin typeface="Arial"/>
              </a:rPr>
              <a:t>numai  5 şcoli autorizate ca furnizori de CV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33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o-RO" sz="1600" spc="-1" strike="noStrike">
                <a:solidFill>
                  <a:srgbClr val="333300"/>
                </a:solidFill>
                <a:latin typeface="Arial"/>
              </a:rPr>
              <a:t>numai 10 programe CVT derulate de 4 şco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424320" y="1143000"/>
            <a:ext cx="571968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228600" y="685800"/>
          <a:ext cx="8686800" cy="2949480"/>
        </p:xfrm>
        <a:graphic>
          <a:graphicData uri="http://schemas.openxmlformats.org/drawingml/2006/table">
            <a:tbl>
              <a:tblPr/>
              <a:tblGrid>
                <a:gridCol w="1359000"/>
                <a:gridCol w="1006200"/>
                <a:gridCol w="935280"/>
                <a:gridCol w="993600"/>
                <a:gridCol w="906480"/>
                <a:gridCol w="981000"/>
                <a:gridCol w="789120"/>
                <a:gridCol w="992160"/>
                <a:gridCol w="723960"/>
              </a:tblGrid>
              <a:tr h="3988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zin  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rmare TVET</a:t>
                      </a:r>
                      <a:r>
                        <a:rPr b="0" lang="ro-RO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/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r. total şcoli TV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tribuţia şcolilor TV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urb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n care asistate pr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RUR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n care asistate pr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are TV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iect Naţional 2007-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te sur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are TV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iect Naţional 2007-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te sur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–  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-   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-  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şcoli TVET -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304920" y="5486400"/>
            <a:ext cx="8534160" cy="7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 u="sng">
                <a:solidFill>
                  <a:srgbClr val="990033"/>
                </a:solidFill>
                <a:uFillTx/>
                <a:latin typeface="Arial"/>
                <a:hlinkClick r:id="rId1" action="ppaction://hlinksldjump"/>
              </a:rPr>
              <a:t>[1]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 Bazinul de formare TVET are ca scop organizarea teritorială a reţelei şcolare TVET astfel încât să asigurăm până în 2010 accesul la educaţia de nivel secundar superior (învăţământ profesional – an de completare şi ciclul superior al liceului) a cel puţin 85% din populaţia de vârstă 20-24 ani (EU benchmark) – vezi PRAI/PLAI/P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6095880"/>
            <a:ext cx="8534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ff"/>
                </a:solidFill>
                <a:latin typeface="Arial"/>
              </a:rPr>
              <a:t>Domeniile pentru care se recomandă reducerea ofertei TVET</a:t>
            </a:r>
            <a:r>
              <a:rPr b="1" lang="ro-RO" sz="2000" spc="-1" strike="noStrike">
                <a:solidFill>
                  <a:srgbClr val="0d052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66680" y="152280"/>
            <a:ext cx="7772400" cy="7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Evoluţia  ofertei TVET-PLAI 2013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81080" y="6095880"/>
            <a:ext cx="670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533520" y="1592280"/>
          <a:ext cx="8381880" cy="4506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592280"/>
                    <a:ext cx="8381880" cy="45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Evoluţia  ofertei TVET-PLAI 2013</a:t>
            </a:r>
            <a:br>
              <a:rPr sz="2000"/>
            </a:br>
            <a:r>
              <a:rPr b="1" lang="ro-RO" sz="2000" spc="-1" strike="noStrike">
                <a:solidFill>
                  <a:srgbClr val="0000ff"/>
                </a:solidFill>
                <a:latin typeface="Arial"/>
              </a:rPr>
              <a:t>Domeniile pentru care se recomandă menţinerea constantă a ofertei TVET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81080" y="6095880"/>
            <a:ext cx="670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80880" y="1515960"/>
          <a:ext cx="8382240" cy="4506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515960"/>
                    <a:ext cx="8382240" cy="45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8T03:46:53Z</dcterms:created>
  <dc:creator>IONESCU I</dc:creator>
  <dc:description/>
  <dc:language>en-US</dc:language>
  <cp:lastModifiedBy>Serban Madlen</cp:lastModifiedBy>
  <dcterms:modified xsi:type="dcterms:W3CDTF">2007-01-18T11:34:22Z</dcterms:modified>
  <cp:revision>49</cp:revision>
  <dc:subject/>
  <dc:title>PRAHOV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057346849</vt:r8>
  </property>
  <property fmtid="{D5CDD505-2E9C-101B-9397-08002B2CF9AE}" pid="3" name="_AuthorEmail">
    <vt:lpwstr>madlen@tvet.ro</vt:lpwstr>
  </property>
  <property fmtid="{D5CDD505-2E9C-101B-9397-08002B2CF9AE}" pid="4" name="_AuthorEmailDisplayName">
    <vt:lpwstr>Madlen Serban </vt:lpwstr>
  </property>
  <property fmtid="{D5CDD505-2E9C-101B-9397-08002B2CF9AE}" pid="5" name="_EmailSubject">
    <vt:lpwstr>pntru Lala si pt CD</vt:lpwstr>
  </property>
</Properties>
</file>